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A267-A6BF-4CFA-95FD-111A259235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4EFA-9AB1-453A-8537-B4DAFD98C0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DB26-52A9-4DB4-9FF1-426FF7BBF8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40B0-6714-4327-8C57-0DDF1EABCD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A5B9-65AC-4142-AE6E-8F1C8E498F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121B-456E-4FBF-9FE1-06F10BA51F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8048-6976-4E76-82C1-5FC33FC522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4055-35F1-4D46-A59C-2D3978A148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E8B-0FE5-4F60-AA16-86FC046E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1F7E-2CA5-4D11-90BF-3AFAA566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508-7F61-4F72-BEEA-58CE500D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1D0-F9D4-4B43-B2F5-BB55634B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ED51-76BD-4598-A9B0-B6BE8900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E720-1212-4803-93B2-E5F4F479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74EA-46FD-4CB3-BAC4-5C86A263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CA60-36D4-49F1-B50B-06F01941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2E23-49EE-47E1-9173-E73DDBA6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CA62-C9C1-4DE4-A3C6-773FDEBF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8181-9076-4992-8876-EAE489FD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CFD-B5CD-4E9E-88DB-FA0DF1E8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9495-C268-4AAB-BA19-DED04A13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3453-EB24-4141-A186-53EFB8E1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B140-9476-4FEA-B23D-67F3826B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5D17-48FD-4C5C-A6C4-E944A72F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8E77-D24A-4894-BBC7-7AFAE9DA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BB1A4-A6C3-437A-94F5-A487D6D4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D0B14-4476-4409-A749-A948DD50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AB35F-E590-42FF-9EC2-ED72DCC6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88614-E868-4563-A208-04D6CEE2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C700E-A9B9-496D-A5C1-B1A57C4C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D7E-AEC0-42E7-B982-45DF2BA2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1D4EA-A997-4043-98FF-1BB0B3ED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631EC-2D3F-4F3E-A88C-5304661D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73546-7DE9-47A7-A52A-46AEED84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4EA89-61B0-4384-8B65-0DE7A140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CAAC4-5BF8-4859-ABBE-E2547808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205FD-7A4A-41B3-94B2-983F0712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035A0-E60C-4214-93A1-8979C435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3C9BE-3432-4575-888A-5F4451A3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3C76F-F5DA-453B-B00C-30ED576C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BE538-9717-4967-9CE7-5C74F1F0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646-8F1B-46DF-A0D6-01B694E9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1A5A1-220F-4941-A486-5DF46D95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F1830-4020-4642-A48A-416966B0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CF5FD-5F31-49CD-9C9B-F61E2D4A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864D1-E4D1-4CC6-AC6A-BC5ED8AF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873A1-F39C-43CC-9D90-14147FF1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60BE7-F709-44CD-8470-B38F945E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4DC39-51C0-4356-9FB5-079ABD61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F1C49-D7B0-497B-A307-AB7CE9ED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60AEF-DEF6-458B-AED8-D75244C4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56105-6DE4-4DBC-BCB4-8794B1B6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DED-5674-49DE-BF71-B319B4AE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39420-266F-4A31-A113-3BDEF1A8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F17E4-983B-46ED-8C45-1FCDCDAE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D22F6-F790-4652-BCA9-EC532EED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C88AB-B1D9-4E61-AD39-D072EAA5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DC1FE-624E-451F-9E77-CD0E6F5A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2F26D-AE09-4CB7-A9A4-A7830557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BD906-A822-41B2-9AB8-02B104C0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550CF-994C-409B-BE44-F0305203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E7759-E339-4220-8A67-F84EABAA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2355C-3D7C-42E6-B2B3-12BC4D38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7467-0D44-47BB-9AD4-552B9530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686ED-8C7F-4874-983E-3C55D7AB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715-0A53-428A-8F32-08382C4B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FBC-88EE-4DD1-8E08-16D2D0E0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95AF-BA19-4F07-ACB1-BC1D3600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1B6C-4208-4864-94B1-62FE09351DA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9685-6516-40A1-88B2-A43886382F6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69C0-8B12-4515-8A15-8752D50D411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1869-3E2E-4B9F-95EE-AFFA5640E0F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9744-B06D-4659-A594-E45CDB677EC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16 ноября -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57160" y="3643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Verdana"/>
              </a:rPr>
              <a:t>Международный день толерантност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Овал 1"/>
          <p:cNvSpPr/>
          <p:nvPr/>
        </p:nvSpPr>
        <p:spPr>
          <a:xfrm rot="238200">
            <a:off x="3097080" y="1695600"/>
            <a:ext cx="3664080" cy="32526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олеран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3"/>
          <p:cNvSpPr/>
          <p:nvPr/>
        </p:nvSpPr>
        <p:spPr>
          <a:xfrm flipH="1">
            <a:off x="4928760" y="1000080"/>
            <a:ext cx="1800" cy="928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7"/>
          <p:cNvSpPr/>
          <p:nvPr/>
        </p:nvSpPr>
        <p:spPr>
          <a:xfrm>
            <a:off x="6143760" y="3429000"/>
            <a:ext cx="114300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2"/>
          <p:cNvSpPr/>
          <p:nvPr/>
        </p:nvSpPr>
        <p:spPr>
          <a:xfrm>
            <a:off x="4815720" y="4944960"/>
            <a:ext cx="34920" cy="6271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7"/>
          <p:cNvSpPr/>
          <p:nvPr/>
        </p:nvSpPr>
        <p:spPr>
          <a:xfrm flipH="1" flipV="1">
            <a:off x="2285640" y="3429000"/>
            <a:ext cx="150012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22"/>
          <p:cNvSpPr/>
          <p:nvPr/>
        </p:nvSpPr>
        <p:spPr>
          <a:xfrm flipV="1">
            <a:off x="6300720" y="1499760"/>
            <a:ext cx="628560" cy="7635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25"/>
          <p:cNvSpPr/>
          <p:nvPr/>
        </p:nvSpPr>
        <p:spPr>
          <a:xfrm flipH="1" flipV="1">
            <a:off x="2928960" y="1499760"/>
            <a:ext cx="1285920" cy="10717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29"/>
          <p:cNvSpPr/>
          <p:nvPr/>
        </p:nvSpPr>
        <p:spPr>
          <a:xfrm flipH="1">
            <a:off x="3357720" y="4500000"/>
            <a:ext cx="642960" cy="5713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32"/>
          <p:cNvSpPr/>
          <p:nvPr/>
        </p:nvSpPr>
        <p:spPr>
          <a:xfrm>
            <a:off x="5929200" y="4500720"/>
            <a:ext cx="928800" cy="8571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Улыбающееся лицо 44"/>
          <p:cNvSpPr/>
          <p:nvPr/>
        </p:nvSpPr>
        <p:spPr>
          <a:xfrm>
            <a:off x="4500720" y="3643200"/>
            <a:ext cx="914400" cy="928800"/>
          </a:xfrm>
          <a:prstGeom prst="smileyFace">
            <a:avLst>
              <a:gd name="adj" fmla="val 9282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50"/>
          <p:cNvSpPr/>
          <p:nvPr/>
        </p:nvSpPr>
        <p:spPr>
          <a:xfrm>
            <a:off x="4071960" y="642960"/>
            <a:ext cx="1785960" cy="98568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мириться с чужим мнение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51"/>
          <p:cNvSpPr/>
          <p:nvPr/>
        </p:nvSpPr>
        <p:spPr>
          <a:xfrm>
            <a:off x="6643800" y="714240"/>
            <a:ext cx="2071440" cy="9288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Терпимость к другим верования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52"/>
          <p:cNvSpPr/>
          <p:nvPr/>
        </p:nvSpPr>
        <p:spPr>
          <a:xfrm>
            <a:off x="6929280" y="2928960"/>
            <a:ext cx="1857600" cy="107172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важение права быть ины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53"/>
          <p:cNvSpPr/>
          <p:nvPr/>
        </p:nvSpPr>
        <p:spPr>
          <a:xfrm>
            <a:off x="714240" y="714240"/>
            <a:ext cx="2286000" cy="13575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меть понимать и принимать человека таким , каков он ест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54"/>
          <p:cNvSpPr/>
          <p:nvPr/>
        </p:nvSpPr>
        <p:spPr>
          <a:xfrm>
            <a:off x="357120" y="3000240"/>
            <a:ext cx="1914480" cy="9144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меть прощат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55"/>
          <p:cNvSpPr/>
          <p:nvPr/>
        </p:nvSpPr>
        <p:spPr>
          <a:xfrm>
            <a:off x="1071720" y="4786200"/>
            <a:ext cx="2342880" cy="9144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Проявлять сострадание, милосерд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авая фигурная скобка 56"/>
          <p:cNvSpPr/>
          <p:nvPr/>
        </p:nvSpPr>
        <p:spPr>
          <a:xfrm>
            <a:off x="6929280" y="5214960"/>
            <a:ext cx="155880" cy="914400"/>
          </a:xfrm>
          <a:custGeom>
            <a:avLst/>
            <a:gdLst>
              <a:gd name="textAreaLeft" fmla="*/ 0 w 155880"/>
              <a:gd name="textAreaRight" fmla="*/ 5616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57"/>
          <p:cNvSpPr/>
          <p:nvPr/>
        </p:nvSpPr>
        <p:spPr>
          <a:xfrm>
            <a:off x="6643800" y="5000760"/>
            <a:ext cx="1928880" cy="105732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важение прав други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58"/>
          <p:cNvSpPr/>
          <p:nvPr/>
        </p:nvSpPr>
        <p:spPr>
          <a:xfrm>
            <a:off x="3857760" y="5572080"/>
            <a:ext cx="1985760" cy="8571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важение человеческого досто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8d3e"/>
                </a:solidFill>
                <a:latin typeface="Verdana"/>
              </a:rPr>
              <a:t>Пропущенные слова : дружба, уважение, расположение, человеколюбие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мы хотим, чтобы нас уважали, то мы также должны иметь _______ к другим людям.( Кант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крет успеха в обществе прост: нужна сердечность и _______ к другим.(Эмерсо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мы хотим быть любимы, то надо также проявить _________(Кан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учшее, что есть в жизни человека,- это его __________ с другими людьми.(Кан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8d3e"/>
                </a:solidFill>
                <a:latin typeface="Verdana"/>
              </a:rPr>
              <a:t>Паломничеств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м объектом паломничества христиан является _______ в городе 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мусульман чрезвычайно важно паломничество в город 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удеи главной своей святыней считают город _____, храм, который получил название 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ломничества в буддизме ( _____) начались с поклонения останкам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8d3e"/>
                </a:solidFill>
                <a:latin typeface="Verdana"/>
              </a:rPr>
              <a:t>Религиозные праздники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праздник иудаизма -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праздник христиан -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праздник мусульман- 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мый важный праздник буддистов- 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ерантность (Терпимость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 с помощью трех имен прилагательных объясните, каким должен быть человек, обладающий этим качеством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двух глаголов объясните, каким должен быть человек, обладающий этим качеств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В виде предложения объясните, каким должен быть человек, обладающий этим качеств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олерантность- это свойство характера человека, позволяющее ему быть __________ , уметь _________   с существованием чего-либо, кого-либо, быть ___________ к чему-либо, кому-либ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ключевого слова  в виде имени существительного сделайте вывод : что такое толерантность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8d3e"/>
                </a:solidFill>
                <a:latin typeface="Verdana"/>
              </a:rPr>
              <a:t>Выдержка, примирение, великодушие, снисходительность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ерантность (Терпимость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 с помощью трех имен прилагательных объясните, каким должен быть человек, обладающий этим качеством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нисходительный, великодушный, милосерд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двух глаголов объясните, каким должен быть человек, обладающий этим качеств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щает, принимае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В виде предложения объясните, каким должен быть человек, обладающий этим качеств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олерантность- это свойство характера человека, позволяющее ему быть выдержанным , уметь  мириться  с существованием чего-либо, кого-либо, быть снисходительным к чему-либо, кому-либ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ключевого слова  в виде имени существительного сделайте вывод : что такое толерантност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4:54:28Z</dcterms:created>
  <dc:creator>admin</dc:creator>
  <dc:description/>
  <dc:language>en-US</dc:language>
  <cp:lastModifiedBy>Людмила</cp:lastModifiedBy>
  <dcterms:modified xsi:type="dcterms:W3CDTF">2013-04-12T06:00:49Z</dcterms:modified>
  <cp:revision>40</cp:revision>
  <dc:subject/>
  <dc:title>ТОЛЕРАНТНОСТЬ -ТЕРПИМОСТЬ</dc:title>
</cp:coreProperties>
</file>